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6E6D0-00E4-4A34-A6D3-23FF1012B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C97E1-86C3-4D03-98D7-33D631540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697FF-4019-4371-AEE0-C55D72557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CE727-BC70-4709-A17A-AC142FE6E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26EEE-C284-4AC7-B21B-937F96B83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3C910-1030-42DD-84D0-006DC028B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A0E1E-9754-4DDD-89E6-0833051F7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47634-3EAF-4CCF-8F0B-4D391D66E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990E4-44B1-4A31-A266-0C5646B83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8C089-6FE1-449D-B64E-3F82B82CE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23C1E-FC2B-4A69-9E23-4F95CD54A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0AD88-35AF-439C-8BE7-3EE99C55C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69A0A-3A63-46AE-BDC4-073822001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D2F4-0D0E-4F86-86E1-5E00835D5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1CBEF-F4FA-4BC7-8BC2-96AF0A85E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90560-F47C-4243-BCF8-1695D42B1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B47B6-2BD4-4318-BDDE-E01258F26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487FD-0787-495F-B8CA-9B698BC5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E723E-AA57-4327-847C-705BE8644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885A-FAC2-4D2F-BCAE-C6BC1C8E1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FDC6C-FB9A-4522-A4EA-94969938F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81D2-9B26-4920-BCBD-4E314BE4F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5CD6-1B68-4304-BB8E-20B3DD5BD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129C-7EC5-44C2-88A8-9186A8040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9534-864F-4640-86AD-7922077E8712}" type="datetime">
              <a:rPr b="0" lang="tr-TR" sz="1200" spc="-1" strike="noStrike">
                <a:solidFill>
                  <a:srgbClr val="898989"/>
                </a:solidFill>
                <a:latin typeface="Calibri"/>
              </a:rPr>
              <a:t>30.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EE1F-3E06-4F31-AB29-7939BDDA6D4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4739-9D36-4678-A2D6-C9A532A85574}" type="datetime">
              <a:rPr b="0" lang="tr-TR" sz="1200" spc="-1" strike="noStrike">
                <a:solidFill>
                  <a:srgbClr val="898989"/>
                </a:solidFill>
                <a:latin typeface="Calibri"/>
              </a:rPr>
              <a:t>30.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D35F-F5F9-4435-8791-7B0B903689B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2A36-2C64-4FC7-97B1-9A7F0097E19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FED0-B56F-41AD-AD58-F48852558D5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4F4D-B998-423E-AB46-B5AE9A38B4E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5FA5-B97E-4460-B66F-B2EF07D0C2C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9C36-AE08-4713-8B24-4CBC137C876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B0CE-650D-4810-9DBE-156800E283F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39A4-B7B2-4AA9-A030-6123943CDFE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E40C-5346-480F-95DE-B095EE93D82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8686-7040-45CB-9064-2A925E0F846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DF40-2FD5-4157-AA67-4F891A9F46D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3E7D-CC54-4D5A-9E63-BE07AB9F566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4595-510E-4AFC-904E-64FD7782B90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EB5B-343A-4F00-8310-8B715FE8D65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859A-B78E-4212-9217-824C7DBFB07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D5D8-2440-4AB2-B26F-150F0397CA0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F8C0-5BA6-40C5-900C-EA6E2D08C4C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1371-4322-488D-B80E-5B76D8F7E5E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979C-1A87-41CB-BF1A-6621A50F110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E6DA-2E62-40CC-A98E-B20C7984729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1CC9-79D3-48C5-858E-ABD942C8EF4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C3D2-CBC0-4EC0-95D9-50F8D62830E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324A-601A-4221-8E0A-D3B27D151DF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F2B5-4579-48E0-9403-20937F63B47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1346-8914-49FA-9EC7-D43F83D5DCF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8245-87A1-4671-BB7F-5E28DF8C0F9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D029-732A-4853-83FF-AABD53A8122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4B28-664C-437C-970F-85073105B04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2B92D314-63D2-4A2F-897B-F3E3745A7AC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8883-2323-44A2-B775-5ABC257EBBB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1928-7369-491D-83BB-2B3FFACEB53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7DC9-0469-498A-86FE-BFC6EE4842E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CAFC-FDF5-4287-8C99-5125C64950D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B212-1843-4B3E-9CA7-432F416AF67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1113-F738-4375-AB0E-F74A4AE3B80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F027-2C59-47BD-9001-8106B92F3F4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4AE9-AE45-4997-91AC-703B0E65B38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BA04-9445-43AE-8B07-A9F023BCE64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CCC9-3A17-4993-97C6-C168E35129A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969E-8363-4BB7-B627-B9AAF189AA1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